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634-5281-427B-AB25-341B7D3C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E56-8CD2-4E86-A41E-0D21B5B2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A23-4EB5-47C6-8FD0-D1AD8D7D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A78-4D1D-4C8F-AD42-1EFCA0E2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9DE-052E-41FF-B85C-158D4D48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892-D402-4511-9A0E-0099AE0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D7A-FCC9-417C-BB45-7F338E5D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050-27AD-405D-896D-9A8158BE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45A-6DB9-4DED-822B-F3FAD14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EFD-2BAD-4953-B4E0-3B5D3302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5C7-8DCE-484C-8DAD-7AA1F658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CB1-8AAD-4E7B-BBF3-AFC3DF0C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F894-CD20-4399-82C6-05BE705EF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3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COTTISH  INDOOR  ASSOC.        SCOTTISH  INDOOR  ASSOC.                      ABERDEEN                                    ABERDEEN                                      ABERDEEN  25TH                                  ALLAND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4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     AYR                                           BAINFIELD                                     BALBARDIE                                         BLANTYRE                                    BLANTYRE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N  ACCORD                                    BUCHAN                                   CASTLEMILK                                      CLYDEBANK                                       COATBRIDGE                                           COW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73240" y="191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68520" y="1628640"/>
            <a:ext cx="1243080" cy="1281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243080" cy="110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28880" y="26028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513240" y="26028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952880" y="260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608880" y="11592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8193240" y="260280"/>
            <a:ext cx="95076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24520" y="170028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608880" y="148428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121600" y="1844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31800" y="3645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73240" y="342900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440160" y="3645000"/>
            <a:ext cx="140796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097600" y="364500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608880" y="3284640"/>
            <a:ext cx="127944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193240" y="350028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488880" y="5300640"/>
            <a:ext cx="126216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073240" y="5445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5097600" y="544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681960" y="5445000"/>
            <a:ext cx="116964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193240" y="5084640"/>
            <a:ext cx="1315800" cy="14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488880" y="1916280"/>
            <a:ext cx="1082880" cy="113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        ARBROATH                          ARBROATH  25TH                                ARDROSSAN                                          ARDROSSAN                                AUCHINL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0:23:11Z</dcterms:created>
  <dc:creator>John Young</dc:creator>
  <dc:description/>
  <dc:language>en-US</dc:language>
  <cp:lastModifiedBy>JY</cp:lastModifiedBy>
  <cp:lastPrinted>2000-10-18T00:23:58Z</cp:lastPrinted>
  <dcterms:modified xsi:type="dcterms:W3CDTF">2007-05-15T15:24:31Z</dcterms:modified>
  <cp:revision>10</cp:revision>
  <dc:subject/>
  <dc:title>No Slide Title</dc:title>
</cp:coreProperties>
</file>